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28D86-2186-4C86-B27F-CF925C13B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C7D5F-B8D9-42B0-A160-BF9BF0092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9BF3D-DCFF-4B52-9076-A05FA4197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D9E41-8667-45C6-9AE5-D20530D31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7CD76-860F-4686-9D93-13AE5AF29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7748C-45EA-46C6-9683-6FBE34103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4E398-F2FA-4BCD-B4E9-01C58D120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8228C-D6EA-4977-901F-32646B0CE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D2E53-5D99-41BE-95E1-EEB922CE9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DA92B-7F57-498C-8DE7-102085389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07F1B-E104-46EC-9F47-96603E97D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DF764-8175-4140-BE98-6308D8CF9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C547B-F2D6-446B-AA1C-D66EC296DE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cochranelibrary.com/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Times New Roman"/>
              </a:rPr>
              <a:t>Медицина</a:t>
            </a:r>
            <a:r>
              <a:rPr b="0" lang="it-IT" sz="4400" spc="-1" strike="noStrike">
                <a:solidFill>
                  <a:srgbClr val="000000"/>
                </a:solidFill>
                <a:latin typeface="Times New Roman"/>
              </a:rPr>
              <a:t> заснована на доказима </a:t>
            </a:r>
            <a:r>
              <a:rPr b="0" lang="sr-CS" sz="4400" spc="-1" strike="noStrike">
                <a:solidFill>
                  <a:srgbClr val="000000"/>
                </a:solidFill>
                <a:latin typeface="Times New Roman"/>
              </a:rPr>
              <a:t>– 3. недеља</a:t>
            </a:r>
            <a:r>
              <a:rPr b="0" lang="it-IT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проф. др Слободан Јанковић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Times New Roman"/>
              </a:rPr>
              <a:t>Веома је значајно за израду рада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За сваку комбинацију кључних речи навести колико је студија пронађено, а колико је затим укључено односно искључено на основу критеријума за укључивање и искључивањ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За сваку пронађену па искључену студију навести конкретан разлог искључивањ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 u="sng">
                <a:solidFill>
                  <a:srgbClr val="000000"/>
                </a:solidFill>
                <a:uFillTx/>
                <a:latin typeface="Times New Roman"/>
              </a:rPr>
              <a:t>Критеријуми за укључивање и искључивање студија нису исти као и критеријуми за оцену валидности и значајности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4"/>
          <p:cNvSpPr/>
          <p:nvPr/>
        </p:nvSpPr>
        <p:spPr>
          <a:xfrm>
            <a:off x="1258920" y="2523240"/>
            <a:ext cx="632916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РОНАЛАЖЕЊЕ  ДОКАЗ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Times New Roman"/>
              </a:rPr>
              <a:t>ИЗВОРИ ИНФОРМАЦИЈ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chrane libr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chrane database of systematic revie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ase of Abstracts of Reviews of Effectiv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P Journal Club on Dis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vidence-Based Medic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DLINE, EMB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ahoo, Lycos, Google, it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oogle schol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p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Times New Roman"/>
              </a:rPr>
              <a:t>Кохранова библиотек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341360"/>
            <a:ext cx="8229600" cy="523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Садржи систематске прегледне чланке који су већ обухватили и анализирали претходно публиковане студиј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Ови чланци су урађени по одговарајућој методологији, и може им се вероват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Проширени апстракти су доступни бесплатн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Увек прво тражимо одговор на наше питање у овој бази податак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ttp://www.cochranelibrary.com/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P Journal Club on Disk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 и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vidence-Based Medic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Ове базе података такође садрже систематске прегледе највишег квалитета, као и Кохранова библиотека, али бесплатно нису доступни ни апстракт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ПРЕТРАЖИВАЊЕ МЕДЛ</a:t>
            </a:r>
            <a:r>
              <a:rPr b="0" lang="sr-CS" sz="4400" spc="-1" strike="noStrike">
                <a:solidFill>
                  <a:srgbClr val="000000"/>
                </a:solidFill>
                <a:latin typeface="Times New Roman"/>
              </a:rPr>
              <a:t>АЈН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Користити тезаурус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 (специјални речник базе података, по коме су појмови индексирани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Користити ограничавајуће факторе, као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pt) – publication 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py) – publication y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Врста студиј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Kористити и природне реч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када не налазимо адекватне студије помоћу тезаурус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Користити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loding”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појединачних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терми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Times New Roman"/>
              </a:rPr>
              <a:t>Тактика претраживањ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Сваку коришћену комбинацију речи забележити, као и пронађене студиј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Користити више израза за исти појам, нпр. народни и латински нази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Користити опцију “повезани радови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Нек</a:t>
            </a:r>
            <a:r>
              <a:rPr b="0" lang="sr-CS" sz="4000" spc="-1" strike="noStrike">
                <a:solidFill>
                  <a:srgbClr val="000000"/>
                </a:solidFill>
                <a:latin typeface="Times New Roman"/>
              </a:rPr>
              <a:t>е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корисне кључне речи за претраживање МЕДЛ</a:t>
            </a:r>
            <a:r>
              <a:rPr b="0" lang="sr-CS" sz="4000" spc="-1" strike="noStrike">
                <a:solidFill>
                  <a:srgbClr val="000000"/>
                </a:solidFill>
                <a:latin typeface="Times New Roman"/>
              </a:rPr>
              <a:t>АЈН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За студије о третманима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nical trial (p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ized controlled trial (p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rug therapy (sh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rapeutic use (sh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(tw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За студије о прогнози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 cohort stud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 morta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low-up stud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rtality (sh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gnosis (tw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dict (tw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urse (tw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Нек</a:t>
            </a:r>
            <a:r>
              <a:rPr b="0" lang="sr-CS" sz="4000" spc="-1" strike="noStrike">
                <a:solidFill>
                  <a:srgbClr val="000000"/>
                </a:solidFill>
                <a:latin typeface="Times New Roman"/>
              </a:rPr>
              <a:t>е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корисне кључне речи за претраживање МЕДЛ</a:t>
            </a:r>
            <a:r>
              <a:rPr b="0" lang="sr-CS" sz="4000" spc="-1" strike="noStrike">
                <a:solidFill>
                  <a:srgbClr val="000000"/>
                </a:solidFill>
                <a:latin typeface="Times New Roman"/>
              </a:rPr>
              <a:t>АЈН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За студије етиологије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(tw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 cohort stud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dds and ratio (tw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ve and risk (tw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se and control (tw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За студије о дијагнози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agnosis (p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 sensitivity and specific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agnostic u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sitivity (tw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ity (tw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0T21:18:48Z</dcterms:created>
  <dc:creator>Slobodan Jankovic</dc:creator>
  <dc:description/>
  <dc:language>en-US</dc:language>
  <cp:lastModifiedBy>Slobodan Jankovic</cp:lastModifiedBy>
  <dcterms:modified xsi:type="dcterms:W3CDTF">2015-08-02T12:28:58Z</dcterms:modified>
  <cp:revision>62</cp:revision>
  <dc:subject/>
  <dc:title>Slide 1</dc:title>
</cp:coreProperties>
</file>